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4027-1EB5-42EE-8B2D-CA45ECF83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7808-986F-4B06-A7E8-40D07B27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9194-5B6C-4979-ADA2-2AEC30754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8112-9D2A-4F43-BF45-CF7F704C8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57E3-24B9-413C-AC3D-30A9541E9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84E9-20F2-4688-AED3-E244048D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7155-4F95-4AB9-A48F-D5F5E9E0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146F-204E-47AF-8A46-71BD098E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BF47-3754-495A-8FCD-04044AD7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A97C-0D05-4402-9EF5-03DE781F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4309-54D2-4453-87AE-A885761E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FE62-1C89-4782-87E6-3F99644C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5D2A-4061-4AEC-B68C-86B1E0CB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3465-8CD9-4625-8D0C-A3C48ECB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C0D6-E56E-4735-B863-53F6B78C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8266-BBE6-4789-90EB-648440774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A4A6-FAFF-411A-A6CA-D72FE39D2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65E5-98C4-4795-B759-29B2C21F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496A-4330-459D-BE13-CEA4E21E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E54F-9972-46F6-99C4-5234C0AA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B134-1615-45AC-827D-8863D359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2E76-8B35-4271-B0BF-CA7B9278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6867-8B4B-475C-A18C-D45B29D2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220D-ED68-4121-80FE-C0FB2CA5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7CF6-B94E-491C-899F-A0D12E0437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40ED-E594-46EB-836A-24223A7C9A3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4724280"/>
            <a:ext cx="7772400" cy="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0000"/>
                </a:solidFill>
                <a:latin typeface="Times New Roman"/>
              </a:rPr>
              <a:t>Build your Rounding Muscles!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76520" y="314280"/>
            <a:ext cx="495288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hat does rounding mean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round to a place value of a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ber you are rounding to will stay the same, or go up on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       or     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 numbers to the right turn into zero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00        or      7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ill is stay the same or go up?</a:t>
            </a:r>
            <a:br>
              <a:rPr sz="4400"/>
            </a:br>
            <a:r>
              <a:rPr b="0" lang="en-US" sz="2000" spc="-1" strike="noStrike">
                <a:solidFill>
                  <a:srgbClr val="420000"/>
                </a:solidFill>
                <a:latin typeface="Times New Roman"/>
              </a:rPr>
              <a:t>Look at the number to the right of the number you are rounding to!</a:t>
            </a:r>
            <a:endParaRPr b="0" lang="en-US" sz="2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45, if you are rounding to the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4 will be the number we will look 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number is strong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,6,7,8,9, then the number yo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rounding to goes 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number is weak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,1,2,3,4, then the number you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nding to stays the s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410080" y="3048120"/>
            <a:ext cx="1835280" cy="1488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943600" y="4952880"/>
            <a:ext cx="61596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ractice!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our number is 645, we will look at the 4 to see whether the 6 will stay 6 or turn into 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is a weak number!  So, 6 will stay 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numbers turn into 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… 645 rounds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38480" y="4724280"/>
            <a:ext cx="2743200" cy="17528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5105520"/>
            <a:ext cx="190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More!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7 to the nearest 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76 to the nearest 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,765 to the nearest hund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teacher can help you with mo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A song to help!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my Ch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two, stay the sam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, four, stay the sam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, two, three, four, stay the sam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ve, six, round up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, eight, round up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ve, six, seven, eight, round up, and nin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9T20:10:32Z</dcterms:created>
  <dc:creator> </dc:creator>
  <dc:description/>
  <dc:language>en-US</dc:language>
  <cp:lastModifiedBy> </cp:lastModifiedBy>
  <dcterms:modified xsi:type="dcterms:W3CDTF">2008-04-29T20:39:16Z</dcterms:modified>
  <cp:revision>7</cp:revision>
  <dc:subject/>
  <dc:title>Build your Rounding Muscles!</dc:title>
</cp:coreProperties>
</file>